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D960-3873-4071-8C0F-D1C2C5F95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827-7215-4722-9F15-CAFFC31C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2D8DD4-5BE2-4C06-910D-2FE06300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94750-3827-4443-986C-922CCC44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2A570-C148-4D97-B013-23682722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E02993-39C1-49D2-911C-82BB7DEB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E364C-F829-45E0-AD58-7EC944BA1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38ABB-2412-4AE2-AB30-805EC93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9BDE5-C1D0-45B1-B71D-C7B71C77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90C32-22B0-47B3-8E86-1E229C329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E439D-D88E-4D73-8141-7264F6B6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AE3B66-8214-418A-9D4F-03A82E07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A6C2-7021-44A2-8CBC-7EA652D4A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31822-51BC-42D0-AEC1-7E7293B8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BE1C9-56A7-456D-B359-E747C54C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E63138-F238-4EC1-A04E-4F6BD8E0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0662DF-7152-4656-8DD9-F86FDD7A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AF173-8582-4C89-A42F-5F8D0EEF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C1CD82-E327-49AD-84C8-3E3F37BC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E0912C-A903-4F7B-8552-7EFE4545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7B510-9D80-41B1-81E7-A1DB8EF4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1BADBC-B3E3-436F-870D-696DAF11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FA18EC-AB4F-45AB-9B1D-FC108EBF3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B8BD-3BB6-4709-8D2E-9E1A4B65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462D8-9381-45C3-A6F3-AF58F9008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810DD-EB24-407B-96D2-F0572678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7449FE-C0A1-4CFA-A7F1-0C3AC0A0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59955F-5367-4A36-9F6E-24FD0C03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2B402-909C-43C4-959A-E20EEE3F6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AEF412-3F36-46B0-BA39-6D6EA198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E60F35-EBA1-441A-85B6-0C0BFEA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221C1-C633-49DE-9C1A-3194C3F3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2575E-5BE6-47D8-8006-3CA65134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A1237-8FBB-496C-AD7C-C5A52A71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F64A-4ACD-4825-9538-C51A0E7A8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41BCBD-2A0D-4C3C-8BD7-2B15EDBC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94C5CF-167C-44AD-81E4-EDD32C5B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ACD2DF-50A0-4291-94E1-44F3B33B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CF118-215D-4F77-B2E9-173B1991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DC11D6-6B9A-4E77-ACCC-73D2F943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9D98D1-C231-4972-8D56-9099E5C9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6770F-81BD-48E9-BC0B-D223586B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35D64C-F183-4F0E-BFD1-D0BA275CB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D2834-3840-46CF-9E89-B77EDB7B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950BEB-2523-425F-ADEA-C1C64303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93A1-764A-44ED-8402-5DB4542D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0D8CBA-0F77-46EF-BB7C-D9BD859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AD57F-CECE-40D8-8180-2AE55201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1563F1-CFED-4DDF-8129-E0F5F88E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A51C2-1BB1-48C3-BA6D-2B9CDD5DA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EC8CAF-A52D-40AF-B95F-2BC097C9D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9B073-E64D-40B9-AB79-7D72D54B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AB7C65-D2DB-464E-A3AD-D4536ED15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D36BDA-7163-4D3F-9B4C-131FAE99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82CC2-3133-4E86-9959-89B689683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9B0339-9216-4887-9343-5E165FF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EE135-47A3-4AB1-806F-FC05CAFE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05F5C-8B02-48B9-AF32-8060FD73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A7AD8F-30D0-46EF-B37A-F3091C94B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F002D0-BFB8-4B32-A0D5-F62914CE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C6E7A-C032-4369-A8F6-11E16746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FFA6F-E66B-4CB5-87A0-ABB457B4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F33136-1C05-46F2-80DB-CDAE7608A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FF75EE-2885-45BE-819C-4041AE34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637AB-7416-419C-9C8F-458B0D9B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090D4D-03E9-492E-A1D5-89BE7F75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A96C6E-2F60-4312-B68D-315F18F1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7D560-E5A3-447D-A1B9-FFB96C31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BC1F3-ACAB-43B8-A2A9-D454AE1F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4D8A3F-2273-4A1B-8065-30C8A40D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4EADF8-D97B-46DB-8ED8-12DE2E34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0D80C4-A55B-487D-AAAA-5B2F312E5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CEE67-7C0C-4D0B-9632-3F4568F4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704A05-7E9E-4F6B-A2E4-E717D2B6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5544B3-7003-473F-93B2-0D11D9C0C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461CC9-ACC2-4E27-BE09-8DA04D7D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1CC757-170C-4C43-81A6-886A63B9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2884FC-19FA-43CC-B1D9-BC05ACA7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66D7-6BB2-4142-A76C-58E0D6D0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AA0A2C-69C2-414D-BFAB-D8DFDBF0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173E01-90B6-48BB-B598-A278090ED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DD3C3-78AC-4DB4-BD23-C6292F37E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FFC76-5F1E-4F9F-8520-0CA1FF12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E06A2-5A26-4AFC-B57A-707F133A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85175E-34C5-4F3C-BC10-B4A3E7BD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A66538-8A32-4680-B408-4636A1DE1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800AE1-CC34-4EFA-BF9B-51457D2A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3C6069-9458-45D9-8607-DD003B09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65BB54-41EE-4FB6-8C4B-A57C86B35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BE1AE-C7F2-45F4-9981-337A7F27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8A1785-A497-4693-B0E0-DEFCF267F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8D2691-DC4C-49BF-BBDA-9FAE0FBB9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C4853D-96D3-44D3-90D0-0C159443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00D5A-33C8-4CEC-8FEF-006A4720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7FE20A-1C86-4D06-8C83-BCD2BBA1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CEAE15-B17E-40E8-9728-BE8438EB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170705-3280-418A-A028-852558D8E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52B840-3BD1-4141-8AA8-4053C5A9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3968E7-8C48-47F9-AEA7-4A6A9DC7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6754D1-B3DB-4ADF-B069-6156FEEE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DF938-B4F9-43F2-B63D-89E8DBA1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BC7E7-8CE9-45D4-B54E-2D9F37B3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5583C0-38B5-4147-A667-A98A7BE2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1557B1-10A4-4785-A784-79CDDBD2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B23997-8F0B-43AB-9769-4CE50A53A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9EC7CE-ACC0-4C7F-A6E1-395B8F141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2EA5B3-EF80-4BE7-806B-A0D3E473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E3DAF7-45AE-49DC-8B3B-B3935978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1A834D-3296-4F43-AB9C-8C6F7F533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BD4C55-E69C-4271-93D6-69E0CA15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D3BD9B-690F-4C5E-8ED5-E82B993E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0669-618A-4D35-9985-58EB069B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FC78-4C43-4876-B28D-3E2886A7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E697CB-3DB3-4321-8711-E00E63B6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3DE9F9-AB75-402B-AF04-CC5A8D24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0F49EA-8194-4A9D-A731-57F068CB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EB3F85-77AF-43CE-AA3D-9A639549F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364A23-69EE-4FD0-ABD2-74141D56E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AAEA0C-5E36-490A-A3F1-4BAA76F6C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AC8B3E-326E-4682-9C12-3E9CA5A2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787A53-CD76-426C-9FBE-15594227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070B0C-0F43-44BF-89D1-0306C6CE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769C5-E40C-4050-BADB-77DAD0987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5B1AD-2F9C-422A-AE1F-235B69CB2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B5B936-4EB4-48F4-A9F0-18B0B885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EC046-1414-4DA3-AB01-90AA6AA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612A95-19D3-4746-B25F-EB687078F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138C61-9DEC-4F91-A2C8-E7EF7905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9D204-2AD7-4627-B09C-C6FF60B18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CB291D-9F55-4CCC-B9FE-A59FF9EB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8247B9-0AD1-44BD-81FA-04F694918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282D0C-D586-497D-B820-BF04B7D3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B4577B-2064-4C20-AFA9-9C574DCE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12713B-06CC-4D1D-8FEB-C98798E4F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D9FA-AAF5-4851-ABD0-BA77E905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1E577F-180B-45DD-8B49-1FAF9E0B9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266FD6-9D64-4624-B7FB-EDC2C5E30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2EF00EE-3A96-498E-AE7C-C0E09788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4C5FFB-4AFE-4127-B742-33D4E762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6AD0DE-5C3F-4AC6-A82D-EFCADF80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368E24-D800-432A-899B-FDF871E12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D79398-41C4-4509-AE35-0CE054A9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3AFF43-8216-45AA-8575-A88C28CB4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A5233A-F7FF-4E2F-A496-9EE8937D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A8054B-13E0-4ABC-9777-8673D9DE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58F6-0B4C-4FF8-BACC-87092A34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4C10F1-3E80-459B-BF0A-F34CB68EB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6F80FD-D8E7-49E9-876A-70FC5322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2D4A90-94D8-4F8E-B7F9-513F7B50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E4CAFB-8333-4BDC-8B68-2E1268EA9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CC0D127-2838-48C7-AD20-3C3F12F9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947C4C-A2F1-41F2-8DA2-2E39BCCD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D30501-4A53-4DF7-96BD-1CC58490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E9C4FC-4339-436E-852B-8DB3C6FC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B20367-0A0F-474B-840F-F0BD13AFD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15FEAE-9DB4-4428-B955-8C99238C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B134D-DB14-4D04-80E6-2ACDD395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72A75E-88C1-429C-9396-EA6673B2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1FFCAF-3903-42F6-A30D-9AEE51B9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870C7A-487A-4255-8129-349779E3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5F47A9-097F-4D77-8DA6-0E71F3CC0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301D24-C7C3-489C-9C64-2843838C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8C05D5-8152-49DB-911B-AE1D919B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C5CEC9-40F4-4FCE-95A3-ADD9FE26A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C49107-631D-43BE-8445-821F5E26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618FFD-E99E-403B-A146-A7B4E484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F5F8C-452A-4FFB-A4A9-2525DD50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13F0F-0A53-4581-8DCE-621456EE2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FC97D3-F8AB-4A0A-9E12-CE788D87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6B6A0F-C212-4A95-8243-19570C0E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1D7CEF-898D-4DB1-83E1-4193CE43F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90C8E-E753-4EE4-9C29-7485843C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DC5339-6C18-4558-9F76-2957C02FE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F36A34-D65D-4496-BB2C-E678AE33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6B672F-EB4C-44AD-A955-059FFF4BD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856051-E26B-4260-AD34-87A68168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49870D-CF93-4B66-9CF1-09286EEE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8B09A7-59A0-4682-B1AA-2CA68C8D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65066-B3EF-4C7B-B8B1-94A25776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E97323-7303-417F-87ED-0A67E4E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EA4772-ADF8-4520-8030-5C12A2809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C3A82E-015A-4664-9F56-EAFF5B1B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24E520-C27B-4CD0-9E83-BB8FECE7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F87D22-7A48-41D9-8B25-016B29B4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9797CB-684B-48D7-B7FF-49713BAA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C71746-1E7B-4756-B38D-1BCE8BA2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EA4C77-19A8-47B1-B0CC-8B2027E2D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0790E2-3DFB-45AF-A378-424D40AD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9EC7B2C-F0C1-4C84-98C8-C88B4C7E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73A71-6E07-45CA-B625-7E72A688C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396F4F8-A6D0-4923-8FCE-19DFF93DA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D79843-AD0B-4093-A909-654432B45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DF432D-821A-4BD2-A610-5295578E4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78F560-652D-4971-9ADE-024B32AD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D7B6AB-87A0-47D1-A6C6-E54EEC9F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CAFB4DD-5A84-41A4-BC2A-A226CAACC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5246E3-31EB-4046-B7CD-DCC4D9134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E5A6A-DBAA-4BED-BC4E-ABC7493A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08656-1309-4B76-9F36-30AD2E25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EF9-80ED-4DB7-A8DE-0FF69EC2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0D7CA-1801-4EDD-B641-77A576347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43AC9-0E35-4EE3-9DC0-657B7522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99B87-6383-4FE9-91FA-15367601C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DC50C-323C-4D3A-BDDA-7A7DEE86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A5EB9-C8C0-4C91-9DCA-6BF8E95F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F1814-A662-44D9-90D2-5825AFF6F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0079A-A55A-4415-9590-D5EE2B5DE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3C6DA-8464-4FCF-B5A1-9DF0ED98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4B1DF-945C-4198-9D30-2BF12D6E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C9B12-9ACB-4431-BFF7-9739D07C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A54B-A6D5-4BC4-BB46-C5538037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ED666-7280-48D4-8752-5E66C6B5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3433-10DD-46A9-B8C9-E2DCEFCE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09DAF-5EB4-4C65-834D-2929B4259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82119-273D-4A36-940F-4BE429A7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69235-1B01-4A33-A1AD-B8B15D32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47C2F-FAB7-4DBF-84B6-BBC83942A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FD973-9E42-4B4C-955D-2AC93DF7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B7658-1CE2-42C7-85BE-07C70DDAD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1F2F0-4514-46FD-B03B-7434FD95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58FCB-E148-4CE5-98A6-96CCE0F2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6DCF-A17F-4084-976F-AACA1809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9C12-96BC-4DEB-A064-4311B06A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4219A-6FAB-45CC-BAD9-E6FF7E03B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10F07-D9BF-4573-B6AF-926E316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E5CA3-D47A-40A4-A9C9-8957680CA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953B5-20FE-4B4F-AD25-A9E3300A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51E023-EB81-441B-94F0-C530700C5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EECA39-9AC7-42F3-9B0B-B4DC091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5EAC6-E959-4689-943A-77C74F94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FE6755-C3B5-4027-8790-6BC0FF7E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B6EE-A021-4E05-87EB-A23E973E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A2B7-47CC-4E30-957F-596B5149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CADED-7C67-4BD4-8079-DD22ED303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79968-620A-45F9-A490-F412E8B73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90EC6-1C5D-4A81-83FA-9B6A7011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89D75E-8D75-4AF2-949D-C106F7DD9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FE34A6-F933-4A7B-B3A4-42EC26CF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7B127-FF4E-451C-AC84-491718DDC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57E78-972D-481A-83A1-DE4D7F0D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2D1A9-00F0-4FEE-85B9-EA63DEE6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22B20-0C48-4829-9429-E13196B8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36D0E-36F1-4607-BA84-C6C2E07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C037-E7BB-478B-92D2-74C17F6E5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E885E0-B49D-4659-AF0E-19C8F561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784C8-85BF-43A7-92EF-575DC135F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9809D-D789-4032-9656-AA77F023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A303B4-F2B6-44BD-8249-AC77E074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DFCE15-328B-4144-AC85-8B00E44E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B0E42-F489-42D0-9C63-AE0B7D4E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991A0-CF67-43D1-8D6C-AB12489C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1AF4E-0831-4146-BA74-0DB09A20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359EF-EB57-489E-B7CE-ACD12718C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F115C-0E5B-4436-BD3D-EC950EEB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C34-4DF7-432C-8010-DB84474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BF0C2-DF7C-4488-8092-5B8B67BC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1D9F67-4164-449E-A9CD-47D3A13CB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D353DF-57E3-409C-A741-A8FFDC90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B281D-426D-4836-9DAF-7958B6763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909F70-9BD5-4CA1-BDB7-F1D65C4A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7D291B-31A7-4030-93E2-558C195CA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3C790-65E6-4955-8F01-4909D0AD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001A4-F8AF-4EF4-B8CD-111A39BA4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8F39D-7E97-425C-A564-1ACBBCEB3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8B029-910C-4BF8-9EC7-4EAEE40D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74F-03E0-4293-94AC-E078A481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3BA526-7F41-46A3-8F78-FC39F099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2DF5C-F8D0-45D9-9207-AB39CF81A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6D2A8-52FC-400A-A205-02A6289D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F8777B-4714-417C-9209-B706C767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BFF35-799E-43D3-B9E0-E8505261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247CD-C004-4854-B047-C9E569EF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3DC6F2-D9B5-48E7-BE15-530167205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42A3A-70E3-4367-9BF6-8381D6C9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E69D1-42E5-4208-98B3-13CA82A5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5B2142-790E-454A-91C2-25721123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4445-E2E7-402C-BFC2-5487B554C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4CC4B-AC4C-448E-9F0B-D3C823FB06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807F-9378-437E-857C-BEE4A8A69C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F912-59F1-4268-9C92-2CDEC167A7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92BBA-1503-493D-B43F-A6197108C14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382A-2512-4401-8124-E65790C095F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5A5E0-0AB4-43B9-A053-1FEF9BF12E8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908A-F417-45FC-954F-B8D07BA4FB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9F31-2291-4B16-91CD-3D1E2E6C08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846F0-37B7-4692-84B6-72B4819B64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E6F9-7D40-4BD9-9292-277EEE56E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B87A6-9B65-474F-BBE5-C0468A790A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99120-6042-4E42-B8AE-D1324F62D9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73BF3-904A-45AD-B460-5EA4646018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4CA5A-5127-4B57-8CD2-97B594F5977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67A2-57B1-40E7-808F-B43D9251A3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93BEF-5F8F-48C3-BBF5-C51972CDA7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9303-BD5C-4129-9DA9-49948B9AE2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B1E2-BCB0-4C01-AE08-263E0E0C94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41E5B-BBB9-4FF2-9265-9C4E1E6E3E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4BA98-E003-47C9-B8A2-C6CDBEDE65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89C7B-5813-466E-9CCA-F2DB8B00BF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6590-7601-4ABE-9711-378AA66989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BB11-8052-40B6-8358-E67AECF0F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8669-8446-4586-8975-1344FAD6B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5CA7B-339C-498B-924E-50B3D83364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F297-E578-4C9E-8B85-74C1741FD71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9F7E2-EDA4-4E68-97C0-59AEFC1E7A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DC7-ACC5-4280-848A-91ADD718B98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1962-4DDF-4E4A-B6E2-BF2209DAB9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058E-AA75-45A7-845C-BE4D0D44E9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14A5-6AC1-4D9E-A0CC-7B2275766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B9A4-BF38-4518-B1E2-7BE4A68565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FBA3A-1D34-438B-A7E7-67D569EC19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D750-EC5A-45D3-BFED-5FF26A8D0F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9EE8C-3295-409F-AE79-3CC0FD74DA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E059-F456-49EB-A16A-6CF7CC0204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9F36-5493-40BD-AF01-9514804458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308E-4970-4F2E-B93B-56304884E1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283E-1A83-4B3E-ADC7-86D687151B9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9ABA-4D1C-4A59-B68A-3108B966AA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1BC2-97E3-43A8-B951-0FD0AC9C29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217440" y="2965320"/>
            <a:ext cx="870912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图片 1" descr=""/>
          <p:cNvPicPr/>
          <p:nvPr/>
        </p:nvPicPr>
        <p:blipFill>
          <a:blip r:embed="rId1"/>
          <a:stretch/>
        </p:blipFill>
        <p:spPr>
          <a:xfrm>
            <a:off x="533520" y="1081080"/>
            <a:ext cx="807696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509840" y="2367000"/>
            <a:ext cx="6124320" cy="212400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1547640" y="3732120"/>
            <a:ext cx="4464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266760" y="1023840"/>
            <a:ext cx="861048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图片 1" descr=""/>
          <p:cNvPicPr/>
          <p:nvPr/>
        </p:nvPicPr>
        <p:blipFill>
          <a:blip r:embed="rId1"/>
          <a:stretch/>
        </p:blipFill>
        <p:spPr>
          <a:xfrm>
            <a:off x="552600" y="933480"/>
            <a:ext cx="8038800" cy="49910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2"/>
          <a:stretch/>
        </p:blipFill>
        <p:spPr>
          <a:xfrm>
            <a:off x="4932360" y="10098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3"/>
          <a:stretch/>
        </p:blipFill>
        <p:spPr>
          <a:xfrm>
            <a:off x="1835280" y="190188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4"/>
          <a:stretch/>
        </p:blipFill>
        <p:spPr>
          <a:xfrm>
            <a:off x="4859280" y="270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1" name="Picture 1" descr=""/>
          <p:cNvPicPr/>
          <p:nvPr/>
        </p:nvPicPr>
        <p:blipFill>
          <a:blip r:embed="rId5"/>
          <a:stretch/>
        </p:blipFill>
        <p:spPr>
          <a:xfrm>
            <a:off x="2743200" y="350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6"/>
          <a:stretch/>
        </p:blipFill>
        <p:spPr>
          <a:xfrm>
            <a:off x="4932360" y="436572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图片 1" descr=""/>
          <p:cNvPicPr/>
          <p:nvPr/>
        </p:nvPicPr>
        <p:blipFill>
          <a:blip r:embed="rId1"/>
          <a:stretch/>
        </p:blipFill>
        <p:spPr>
          <a:xfrm>
            <a:off x="504720" y="2185920"/>
            <a:ext cx="8134560" cy="248616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2"/>
          <a:stretch/>
        </p:blipFill>
        <p:spPr>
          <a:xfrm>
            <a:off x="2050920" y="386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图片 1" descr=""/>
          <p:cNvPicPr/>
          <p:nvPr/>
        </p:nvPicPr>
        <p:blipFill>
          <a:blip r:embed="rId1"/>
          <a:stretch/>
        </p:blipFill>
        <p:spPr>
          <a:xfrm>
            <a:off x="304920" y="1305000"/>
            <a:ext cx="853416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719280" y="990720"/>
            <a:ext cx="7705440" cy="487656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6012000" y="1268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4284720" y="2781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19" name="Picture 1" descr=""/>
          <p:cNvPicPr/>
          <p:nvPr/>
        </p:nvPicPr>
        <p:blipFill>
          <a:blip r:embed="rId4"/>
          <a:stretch/>
        </p:blipFill>
        <p:spPr>
          <a:xfrm>
            <a:off x="5881680" y="432108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0" name="图片 1" descr=""/>
          <p:cNvPicPr/>
          <p:nvPr/>
        </p:nvPicPr>
        <p:blipFill>
          <a:blip r:embed="rId1"/>
          <a:stretch/>
        </p:blipFill>
        <p:spPr>
          <a:xfrm>
            <a:off x="228600" y="162000"/>
            <a:ext cx="8686800" cy="6534000"/>
          </a:xfrm>
          <a:prstGeom prst="rect">
            <a:avLst/>
          </a:prstGeom>
          <a:ln w="0">
            <a:noFill/>
          </a:ln>
        </p:spPr>
      </p:pic>
      <p:pic>
        <p:nvPicPr>
          <p:cNvPr id="1021" name="图片 11270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5058000" cy="2295720"/>
          </a:xfrm>
          <a:prstGeom prst="rect">
            <a:avLst/>
          </a:prstGeom>
          <a:ln w="0">
            <a:noFill/>
          </a:ln>
        </p:spPr>
      </p:pic>
      <p:pic>
        <p:nvPicPr>
          <p:cNvPr id="1022" name="图片 11271" descr=""/>
          <p:cNvPicPr/>
          <p:nvPr/>
        </p:nvPicPr>
        <p:blipFill>
          <a:blip r:embed="rId3"/>
          <a:stretch/>
        </p:blipFill>
        <p:spPr>
          <a:xfrm>
            <a:off x="3693960" y="4390920"/>
            <a:ext cx="505800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1" descr=""/>
          <p:cNvPicPr/>
          <p:nvPr/>
        </p:nvPicPr>
        <p:blipFill>
          <a:blip r:embed="rId1"/>
          <a:stretch/>
        </p:blipFill>
        <p:spPr>
          <a:xfrm>
            <a:off x="676440" y="2000160"/>
            <a:ext cx="7791120" cy="2857680"/>
          </a:xfrm>
          <a:prstGeom prst="rect">
            <a:avLst/>
          </a:prstGeom>
          <a:ln w="0">
            <a:noFill/>
          </a:ln>
        </p:spPr>
      </p:pic>
      <p:pic>
        <p:nvPicPr>
          <p:cNvPr id="1024" name="图片 12290" descr=""/>
          <p:cNvPicPr/>
          <p:nvPr/>
        </p:nvPicPr>
        <p:blipFill>
          <a:blip r:embed="rId2"/>
          <a:stretch/>
        </p:blipFill>
        <p:spPr>
          <a:xfrm>
            <a:off x="3330720" y="2608200"/>
            <a:ext cx="505764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图片 1" descr=""/>
          <p:cNvPicPr/>
          <p:nvPr/>
        </p:nvPicPr>
        <p:blipFill>
          <a:blip r:embed="rId1"/>
          <a:stretch/>
        </p:blipFill>
        <p:spPr>
          <a:xfrm>
            <a:off x="247680" y="824040"/>
            <a:ext cx="8648640" cy="520992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2"/>
          <a:stretch/>
        </p:blipFill>
        <p:spPr>
          <a:xfrm>
            <a:off x="755640" y="4869000"/>
            <a:ext cx="4608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9:33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